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B525-9DEB-49DD-BA83-6084A0D8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9FE2-83F0-4858-A6D9-6839AE27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0045-610F-4050-A42C-72E331AE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82DC-56BD-4630-83CF-DA17006B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6655-953B-4E3F-AD21-CB6A4999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2BD6-A53E-479F-84BD-5671A37C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46A3-FEF0-4FA3-9C78-9EB1706F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C7B8-D077-403A-A516-567F03AC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40CA-6BFD-41BD-B51E-9E941CF2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FB75-CC16-4373-92B6-DC18BE7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9CA7-51D6-4B7F-9AF2-7979C598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6632-E26A-4CF2-B292-B7B14EC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205-A752-42B1-A924-6C2485D1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6B92-CD5B-489C-B4E6-5ED21C41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C0BE-EB17-4329-9ECE-BCC3091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E63-5C80-4B46-82EF-57BF74AA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6CAF-30C7-48CC-B145-DC8F5C1A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4BD6-F073-4CAA-87B2-D6B25BE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B64E-8555-4894-9B2E-253AC1BD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14B9-EBFA-4FE7-A30B-154660F4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9EEA-C543-4AB7-BB56-98DA126D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B066-E718-472E-BB0F-DA43A48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EFF4-BB1B-4C4B-9546-15F09B3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53A5-ADA6-488F-A773-6C4D16A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FE43-8EFA-490A-BF7C-9E49C3B3C02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2A95-E397-4591-BA8F-16A339B6455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627920"/>
            <a:ext cx="957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23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769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Тези, що със сълзи добро семе сеят, с радост ще пожънат горе в небеса! Снопи те ще носят, още и ще пея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и във век ще гледат славни чудес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59588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нопи ще носят, снопи ще нося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ез, що с сълзи сеят, снопи ще носят! Снопи ще носят, снопи ще нося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ще пожънат, снопи ще носят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56564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2. Рано сутрин сейте вий доброто сем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ейте, дор удари най-последний час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Вестта разгласете между всяко племе -славна ще да бъде жетвата тогаз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59588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нопи ще носят, снопи ще нося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ез, що с сълзи сеят, снопи ще носят! Снопи ще носят, снопи ще нося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ще пожънат, снопи ще носят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2920" y="1013040"/>
            <a:ext cx="8858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3. Щом ни Бог изпраща, ние навред ще ходим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Обещал, сполука - сееме безспир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ой ни благославя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ние пък Му носим наш'те скъпоценни снопове във мир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159588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Припе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нопи ще носят, снопи ще нося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Тез, що с сълзи сеят, снопи ще носят! Снопи ще носят, снопи ще нося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  <a:ea typeface="Arial"/>
              </a:rPr>
              <a:t>с радост ще пожънат, снопи ще носят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5-19T08:03:36Z</dcterms:modified>
  <cp:revision>177</cp:revision>
  <dc:subject/>
  <dc:title>Slide 1</dc:title>
</cp:coreProperties>
</file>